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06C-DE02-4836-9F39-95B6588A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3E5-A58E-49AB-BF10-FCC43D58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BBE8-355A-47E8-B169-9630D60E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382-83F1-42D0-BDCE-F8F41B77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EBC-F2C9-41E9-8245-33839E97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500-0374-4A08-A312-41025753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034-C309-415C-84A5-42E6910A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439-DF3A-47EF-91D2-F8194F0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891-51B7-4980-A39A-D591C0FF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56A-5303-47F6-8B53-B8B88ED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BA9-92E9-4882-975C-89EA3CD6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1F2-048F-457F-ADD8-C538E93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1810-A868-4DFA-BA55-B2B42C195A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0720" y="2362320"/>
            <a:ext cx="378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ortal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34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934320" y="58672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128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7467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1523880"/>
            <a:ext cx="1600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7543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10:08Z</dcterms:modified>
  <cp:revision>195</cp:revision>
  <dc:subject/>
  <dc:title>Slide 1</dc:title>
</cp:coreProperties>
</file>